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2.gif" ContentType="image/gif"/>
  <Override PartName="/ppt/media/image12.wmf" ContentType="image/x-wmf"/>
  <Override PartName="/ppt/media/image4.png" ContentType="image/png"/>
  <Override PartName="/ppt/media/image1.gif" ContentType="image/gif"/>
  <Override PartName="/ppt/media/image11.jpeg" ContentType="image/jpeg"/>
  <Override PartName="/ppt/media/image20.gif" ContentType="image/gif"/>
  <Override PartName="/ppt/media/image8.gif" ContentType="image/gif"/>
  <Override PartName="/ppt/media/image18.jpeg" ContentType="image/jpeg"/>
  <Override PartName="/ppt/media/image19.gif" ContentType="image/gif"/>
  <Override PartName="/ppt/media/image16.gif" ContentType="image/gif"/>
  <Override PartName="/ppt/media/image15.wmf" ContentType="image/x-wmf"/>
  <Override PartName="/ppt/media/image14.wmf" ContentType="image/x-wmf"/>
  <Override PartName="/ppt/media/image9.wmf" ContentType="image/x-wmf"/>
  <Override PartName="/ppt/media/image7.gif" ContentType="image/gif"/>
  <Override PartName="/ppt/media/image5.jpeg" ContentType="image/jpeg"/>
  <Override PartName="/ppt/media/image10.wmf" ContentType="image/x-wmf"/>
  <Override PartName="/ppt/media/image3.wmf" ContentType="image/x-wmf"/>
  <Override PartName="/ppt/media/image6.gif" ContentType="image/gif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AC5D-C38A-422C-9CBE-316172B6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FC63-C974-4322-8EB8-E808E798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9B7-6E0D-4C17-AE8A-1B27F04E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9D6B-6EAE-4D2D-8AF2-622EF579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C9BC-3E2F-4DED-9F93-B26CC737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4F2C-38EE-4116-BBCD-9D9EFC15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8D7-2E43-49B3-8AB2-CBF14932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126B-EA7B-440C-8CA8-0EE04C3B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6F2-56D9-4065-A8C7-EC024502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5D4-FF36-4F16-9157-4DFCF350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4DB-6B6B-44E4-857A-41735C5E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75C-552C-4480-A52A-B8C7C7CF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8DB0-D0E1-4B3D-ACCF-CABDC3A54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Movies/Chapter%2009A.mpg" TargetMode="External"/><Relationship Id="rId2" Type="http://schemas.openxmlformats.org/officeDocument/2006/relationships/hyperlink" Target="file:///../Movies/Chapter%2009B.mpg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792468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el the 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like to run, bike, or swim? These all are good ways to exercise. When you exercise, your body uses oxygen to get energy from glucose, a six-carbon su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733920"/>
            <a:ext cx="830592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es your body feel at the start of exercise, such as a long, slow run? How do you feel 1 minute into the run; 10 minutes into the ru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o you think is happening in your cells to cause the changes in how you fe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nk about running as fast as you can for 100 meters. Could you keep up this pace for a much longer distance? Explain your answ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1600200" cy="1498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766880" cy="1212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57600" y="0"/>
            <a:ext cx="1231920" cy="178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ATP molecules must be added to get the reaction star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considered activ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ATP molecules are produced (4 – 2 = net gain of 2 AT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NADH molecules are also cre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99"/>
                </a:solidFill>
                <a:uFillTx/>
                <a:latin typeface="Arial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 carrier =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AD+ (nicotinamide adenine dinucleot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2 high energy electron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AD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s electrons to other parts of respi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ycolysis ne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 ATP, 2 NADH, and 2 pyruvic ac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1680" y="2254320"/>
            <a:ext cx="7867440" cy="2340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81040" y="35352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46640" y="459756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he electron transport 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35352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Pyruvic a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ycolysi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tages vs. Disadvant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419360" cy="32004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Occurs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an produce 1000s of ATP in a few milli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Does not require oxy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Can occur w/o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920" y="1752480"/>
            <a:ext cx="4038480" cy="32004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t gain of only 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AD+ become filled with electrons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an’t make more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5105520"/>
            <a:ext cx="1216080" cy="1511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248520" y="5105520"/>
            <a:ext cx="1631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erobic Respiration = Ferm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rs after glycolysis only if no oxygen is avail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DH from glycolysis used, turned back into NAD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es back to glyco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s glycolysis 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s many ATP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because it recycles the NAD+ molecules so that the cell can continue to mak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066680"/>
            <a:ext cx="1828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= “without” aerobic = “ai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Alcoholic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absence of oxygen, pyruvic acid is broken down to produce alcohol and carbon di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yeasts and a few other micro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uvic acid + NAD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alcohol +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ake alcoholic beverages and to cause bread dough to 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22400" cy="1297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620120" y="0"/>
            <a:ext cx="145728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Lactic Acid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ny cells, the pyruvic acid that accumulates due to glycolysis is converted to lactic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uvic acid + NAD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lactic acid + 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muscles during heavy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tic acid buildup in muscles causes painful, burning sensation = why muscles feel s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karyotes also produce lact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make cheese, yogurt, buttermilk, sour cream, pickles, sauerkraut, and kim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1397160" cy="1030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9525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28760" y="2109960"/>
            <a:ext cx="8286480" cy="2638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880" y="32004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32688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7040" y="3124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520" y="837720"/>
            <a:ext cx="64198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tic Acid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ion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erobic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is cellular respiration?  What is the equation for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are the 3 stages of cellular respiration in or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is glycolysis and where does it take place in a cell?  What are the products of glycoly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hat are the advantages and disadvantages of glycoly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at is anaerobic respiration and what is its purp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Compare and contrast alcoholic fermentation with lactic acid fer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866520" cy="866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79200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hapter 9-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Pat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Energy &amp; 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ource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w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calor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ount of energy needed to raise 1g of water by 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ori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kcal, or 1000 cal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breakdown food slowly &amp; grad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can’t use food energy directl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vert to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ll at once, too explosive and most energy lost a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ly releases energy of food to make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2971800"/>
            <a:ext cx="1752840" cy="17524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process that releases energy by breaking down glucose and other food molecules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in the presence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6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ain 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olysis, Krebs cycle, Electron Transport Ch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114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4114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4114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400" y="762120"/>
            <a:ext cx="51055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62280" y="36338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780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71840" y="36338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8772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8176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9728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9132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720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676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8772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9728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eb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0720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1676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2640" y="1812960"/>
            <a:ext cx="29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640" y="1828800"/>
            <a:ext cx="7358040" cy="2881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2438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30481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yco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2971800"/>
            <a:ext cx="76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rebs cycl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2971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44956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rmentation (without oxyg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44197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cohol or lactic a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685800"/>
            <a:ext cx="510552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9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838080" y="762120"/>
            <a:ext cx="8305560" cy="5486040"/>
            <a:chOff x="838080" y="762120"/>
            <a:chExt cx="8305560" cy="548604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1514880" y="762120"/>
              <a:ext cx="7225560" cy="548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"/>
            <p:cNvGrpSpPr/>
            <p:nvPr/>
          </p:nvGrpSpPr>
          <p:grpSpPr>
            <a:xfrm>
              <a:off x="838080" y="2508120"/>
              <a:ext cx="6400080" cy="3351600"/>
              <a:chOff x="838080" y="2508120"/>
              <a:chExt cx="6400080" cy="3351600"/>
            </a:xfrm>
          </p:grpSpPr>
          <p:sp>
            <p:nvSpPr>
              <p:cNvPr id="86" name=""/>
              <p:cNvSpPr/>
              <p:nvPr/>
            </p:nvSpPr>
            <p:spPr>
              <a:xfrm>
                <a:off x="838080" y="3743280"/>
                <a:ext cx="15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luco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298600" y="4028400"/>
                <a:ext cx="866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lycolysi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15920" y="5552640"/>
                <a:ext cx="159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ytoplas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044880" y="3140280"/>
                <a:ext cx="1078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yruvic ac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48280" y="2508120"/>
                <a:ext cx="2809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ctrons carried in NAD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3840" y="3890160"/>
                <a:ext cx="869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rebs Cyc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848480" y="3023280"/>
                <a:ext cx="1420200" cy="66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ctrons carried in NADH and FAD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995440" y="3810240"/>
                <a:ext cx="124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lectron Transport Chai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00240" y="5213520"/>
                <a:ext cx="177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itochondr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6334200" y="2009880"/>
              <a:ext cx="280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920" y="228600"/>
            <a:ext cx="6705360" cy="19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: 3 St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1. Glycolysis (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ytopla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Krebs Cycle (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itochond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lectron Transport Chain (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itochond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Net vs. Gr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ount of product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Made $20.00 babys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ount of product made minus amount of product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Made $15.00 babys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.00 for gas to get to babysitting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.00 babysitting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.00 - $5.00 = $15.00 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298440"/>
            <a:ext cx="1219320" cy="971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91480" y="363600"/>
            <a:ext cx="876240" cy="1218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858000" y="4191120"/>
            <a:ext cx="13176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cess in which one molecule of glucose is broken in half, producing two molecules of pyruvic acid, a 3-carbon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carbon molecule (glucose) to two 3-carbon molecules (pyruv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the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require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1600200" cy="1303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640560" y="228600"/>
            <a:ext cx="99540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3:26:29Z</dcterms:created>
  <dc:creator>bpalme</dc:creator>
  <dc:description/>
  <dc:language>en-US</dc:language>
  <cp:lastModifiedBy>udsd</cp:lastModifiedBy>
  <dcterms:modified xsi:type="dcterms:W3CDTF">2010-03-08T13:25:00Z</dcterms:modified>
  <cp:revision>14</cp:revision>
  <dc:subject/>
  <dc:title>Chapter 9-1</dc:title>
</cp:coreProperties>
</file>